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47330"/>
        <c:axId val="74584153"/>
      </c:barChart>
      <c:catAx>
        <c:axId val="98547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4153"/>
        <c:crosses val="autoZero"/>
        <c:auto val="1"/>
        <c:lblAlgn val="ctr"/>
        <c:lblOffset val="100"/>
        <c:noMultiLvlLbl val="0"/>
      </c:catAx>
      <c:valAx>
        <c:axId val="74584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7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479-2D3E-4957-992B-2774183D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29D-CE3B-4709-94C3-CB49C43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57B-F970-48E3-AF06-636F3144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643-8B15-4A95-8C25-55D7740A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3E1-7A89-46DC-8AA3-AA209DC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CA1-5352-4C6F-9B72-2059AE0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CAB-98F2-4303-B705-E59163DE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531-E288-498D-9530-C9F7FD65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7B5-FE2F-452C-B1D4-DC87A83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569-B306-4872-9FCB-010A134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AF0-F0BB-4BDD-9C9B-6B4C1A1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FE9-D4D6-446C-92F8-33607E2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85C9-5D93-422B-BAAE-C9BC17DF26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