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20483"/>
        <c:axId val="35298729"/>
      </c:barChart>
      <c:catAx>
        <c:axId val="21720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8729"/>
        <c:crosses val="autoZero"/>
        <c:auto val="1"/>
        <c:lblAlgn val="ctr"/>
        <c:lblOffset val="100"/>
        <c:noMultiLvlLbl val="0"/>
      </c:catAx>
      <c:valAx>
        <c:axId val="35298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20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872-74AC-4B84-BA48-3F47BF3E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E52-82C8-4828-A593-6147C8F8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091-C191-4B19-979D-FD913D19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572-0E45-4478-B7CF-608D5D7B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FA7-D576-4B8A-B652-1B8E812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FFF-55FF-446C-AA24-EFA5EE7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D30-9A78-4B79-968E-24137B3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A22-D569-4B17-9291-48B293F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786-753F-4CFE-908E-AE874F3F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ABE-0738-47BA-ADB0-B11078A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418-2FCE-48FF-A23C-8A8F5A0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C81-8E06-4233-BFBC-E5F6492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AAD11-5207-4D15-8092-6307C23D53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